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png" ContentType="image/png"/>
  <Override PartName="/ppt/media/image5.jpeg" ContentType="image/jpeg"/>
  <Override PartName="/ppt/media/image10.jpeg" ContentType="image/jpeg"/>
  <Override PartName="/ppt/media/image6.jpeg" ContentType="image/jpeg"/>
  <Override PartName="/ppt/media/image8.png" ContentType="image/png"/>
  <Override PartName="/ppt/media/image7.png" ContentType="image/png"/>
  <Override PartName="/ppt/media/image9.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10158413" cy="76215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FA2C68-7B30-48C9-9184-BBF62B80FC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761760" y="220032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929DCE-859E-43AC-8B2E-72E0EBBC19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03CCB3-44D1-49F5-AD58-FECB577930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76176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68172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60204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76176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68172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60204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B91602-87B1-4104-9A4F-9FEA1414A2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761760" y="2200320"/>
            <a:ext cx="8636040" cy="4573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B31753-3FBC-455C-AFA0-57B02709F5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761760" y="2200320"/>
            <a:ext cx="863604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C3A511-AE3E-4F04-9202-5F87EC1E01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CD394B-2044-4AC5-8942-0EC4CBDA26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D0BE2B-7B27-4FD6-ABB3-BF3103EA81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1760" y="676440"/>
            <a:ext cx="8636040" cy="5895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6DFFC3-0C8E-4451-9882-7ABA7DA0D7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9B0E58-18C7-46E1-B86C-0576FF3409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602DE1-348D-4670-93D8-7694ADB60C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926DE2-63EF-453D-9A70-2E25402143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61760" y="2200320"/>
            <a:ext cx="8636040" cy="45734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62120" y="6941880"/>
            <a:ext cx="2117520" cy="5094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470040" y="6941880"/>
            <a:ext cx="3219480" cy="5094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279920" y="6941880"/>
            <a:ext cx="2119320" cy="5094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57AFA5-0CF7-44E5-8D68-1155C0A24E3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57160" y="3048120"/>
            <a:ext cx="8445600" cy="121896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bdec"/>
                </a:solidFill>
                <a:latin typeface="Georgia"/>
              </a:rPr>
              <a:t>Gender Bias Survey</a:t>
            </a:r>
            <a:endParaRPr b="0" lang="en-US" sz="4800" spc="-1" strike="noStrike">
              <a:solidFill>
                <a:srgbClr val="000000"/>
              </a:solidFill>
              <a:latin typeface="Times New Roman"/>
            </a:endParaRPr>
          </a:p>
        </p:txBody>
      </p:sp>
      <p:sp>
        <p:nvSpPr>
          <p:cNvPr id="42" name="PlaceHolder 2"/>
          <p:cNvSpPr>
            <a:spLocks noGrp="1"/>
          </p:cNvSpPr>
          <p:nvPr>
            <p:ph type="subTitle"/>
          </p:nvPr>
        </p:nvSpPr>
        <p:spPr>
          <a:xfrm>
            <a:off x="1774800" y="4566960"/>
            <a:ext cx="6610320" cy="9270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27c8a"/>
                </a:solidFill>
                <a:latin typeface="Georgia"/>
              </a:rPr>
              <a:t>By:Ethan</a:t>
            </a:r>
            <a:endParaRPr b="0" lang="en-US" sz="3200" spc="-1" strike="noStrike">
              <a:solidFill>
                <a:srgbClr val="000000"/>
              </a:solidFill>
              <a:latin typeface="Times New Roman"/>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27c8a"/>
                </a:solidFill>
                <a:latin typeface="Georgia"/>
              </a:rPr>
              <a:t> </a:t>
            </a:r>
            <a:endParaRPr b="0" lang="en-US" sz="3200" spc="-1" strike="noStrike">
              <a:solidFill>
                <a:srgbClr val="000000"/>
              </a:solidFill>
              <a:latin typeface="Times New Roman"/>
            </a:endParaRPr>
          </a:p>
        </p:txBody>
      </p:sp>
      <p:pic>
        <p:nvPicPr>
          <p:cNvPr id="43" name="" descr=""/>
          <p:cNvPicPr/>
          <p:nvPr/>
        </p:nvPicPr>
        <p:blipFill>
          <a:blip r:embed="rId2"/>
          <a:stretch/>
        </p:blipFill>
        <p:spPr>
          <a:xfrm>
            <a:off x="2336760" y="711360"/>
            <a:ext cx="939960" cy="1650960"/>
          </a:xfrm>
          <a:prstGeom prst="rect">
            <a:avLst/>
          </a:prstGeom>
          <a:ln w="0">
            <a:noFill/>
          </a:ln>
        </p:spPr>
      </p:pic>
      <p:pic>
        <p:nvPicPr>
          <p:cNvPr id="44" name="" descr=""/>
          <p:cNvPicPr/>
          <p:nvPr/>
        </p:nvPicPr>
        <p:blipFill>
          <a:blip r:embed="rId3"/>
          <a:stretch/>
        </p:blipFill>
        <p:spPr>
          <a:xfrm>
            <a:off x="5384880" y="812880"/>
            <a:ext cx="1422360" cy="1803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p:nvPr>
        </p:nvSpPr>
        <p:spPr>
          <a:xfrm>
            <a:off x="146160" y="812520"/>
            <a:ext cx="9663120" cy="548316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d626c"/>
                </a:solidFill>
                <a:latin typeface="Georgia"/>
              </a:rPr>
              <a:t>I'm Ethan and i'm doing this survey to find out about why people are gender bias and to find out how to stop it and keep it from starting up again so please enjoy the powerpoint.</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d626c"/>
                </a:solidFill>
                <a:latin typeface="Georgia"/>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d626c"/>
                </a:solidFill>
                <a:latin typeface="Georgia"/>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d626c"/>
                </a:solidFill>
                <a:latin typeface="Georgia"/>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d626c"/>
                </a:solidFill>
                <a:latin typeface="Georgia"/>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d626c"/>
                </a:solidFill>
                <a:latin typeface="Georgia"/>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d626c"/>
                </a:solidFill>
                <a:latin typeface="Georgia"/>
              </a:rPr>
              <a:t> </a:t>
            </a:r>
            <a:endParaRPr b="0" lang="en-US" sz="2700" spc="-1" strike="noStrike">
              <a:solidFill>
                <a:srgbClr val="000000"/>
              </a:solidFill>
              <a:latin typeface="Times New Roman"/>
            </a:endParaRPr>
          </a:p>
        </p:txBody>
      </p:sp>
      <p:pic>
        <p:nvPicPr>
          <p:cNvPr id="46" name="" descr=""/>
          <p:cNvPicPr/>
          <p:nvPr/>
        </p:nvPicPr>
        <p:blipFill>
          <a:blip r:embed="rId2"/>
          <a:stretch/>
        </p:blipFill>
        <p:spPr>
          <a:xfrm>
            <a:off x="1320840" y="2438280"/>
            <a:ext cx="6242040" cy="47912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552240" y="355320"/>
            <a:ext cx="9055080" cy="1168200"/>
          </a:xfrm>
          <a:prstGeom prst="rect">
            <a:avLst/>
          </a:prstGeom>
          <a:noFill/>
          <a:ln w="0">
            <a:noFill/>
          </a:ln>
        </p:spPr>
        <p:txBody>
          <a:bodyPr lIns="0" rIns="0" tIns="0" bIns="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000000"/>
                </a:solidFill>
                <a:latin typeface="Arial"/>
              </a:rPr>
              <a:t>Gender Bias Survey</a:t>
            </a:r>
            <a:endParaRPr b="0" lang="en-US" sz="4900" spc="-1" strike="noStrike">
              <a:solidFill>
                <a:srgbClr val="000000"/>
              </a:solidFill>
              <a:latin typeface="Times New Roman"/>
            </a:endParaRPr>
          </a:p>
        </p:txBody>
      </p:sp>
      <p:sp>
        <p:nvSpPr>
          <p:cNvPr id="48" name="PlaceHolder 2"/>
          <p:cNvSpPr>
            <a:spLocks noGrp="1"/>
          </p:cNvSpPr>
          <p:nvPr>
            <p:ph type="subTitle"/>
          </p:nvPr>
        </p:nvSpPr>
        <p:spPr>
          <a:xfrm>
            <a:off x="552240" y="1828800"/>
            <a:ext cx="9055080" cy="4927680"/>
          </a:xfrm>
          <a:prstGeom prst="rect">
            <a:avLst/>
          </a:prstGeom>
          <a:noFill/>
          <a:ln w="0">
            <a:noFill/>
          </a:ln>
        </p:spPr>
        <p:txBody>
          <a:bodyPr lIns="0" rIns="0" tIns="0" bIns="0" anchor="t">
            <a:noAutofit/>
          </a:bodyPr>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1. Do you think boys are smarter than girls?</a:t>
            </a:r>
            <a:endParaRPr b="0" lang="en-US" sz="15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2.Do you think girls are better at sports than girls?</a:t>
            </a:r>
            <a:endParaRPr b="0" lang="en-US" sz="15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3.Do you think girls are faster than boys?</a:t>
            </a:r>
            <a:endParaRPr b="0" lang="en-US" sz="15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4.Do you think boys are better at sports than girls?</a:t>
            </a:r>
            <a:endParaRPr b="0" lang="en-US" sz="15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5.Do you think girls are better at everything than boys?</a:t>
            </a:r>
            <a:endParaRPr b="0" lang="en-US" sz="15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6.Do you think only girls should teach?</a:t>
            </a:r>
            <a:endParaRPr b="0" lang="en-US" sz="15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7.Do you think real men don’t cry?</a:t>
            </a:r>
            <a:endParaRPr b="0" lang="en-US" sz="15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8.Only tough men wear pink?</a:t>
            </a:r>
            <a:endParaRPr b="0" lang="en-US" sz="15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9.Do you think men are physically tougher than women?</a:t>
            </a:r>
            <a:endParaRPr b="0" lang="en-US" sz="15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10.Do you think men are better at everything than women?</a:t>
            </a:r>
            <a:endParaRPr b="0" lang="en-US" sz="1500" spc="-1" strike="noStrike">
              <a:solidFill>
                <a:srgbClr val="000000"/>
              </a:solidFill>
              <a:latin typeface="Times New Roman"/>
            </a:endParaRPr>
          </a:p>
        </p:txBody>
      </p:sp>
      <p:pic>
        <p:nvPicPr>
          <p:cNvPr id="49" name="" descr=""/>
          <p:cNvPicPr/>
          <p:nvPr/>
        </p:nvPicPr>
        <p:blipFill>
          <a:blip r:embed="rId2"/>
          <a:stretch/>
        </p:blipFill>
        <p:spPr>
          <a:xfrm>
            <a:off x="7924680" y="1727280"/>
            <a:ext cx="1816200" cy="2820960"/>
          </a:xfrm>
          <a:prstGeom prst="rect">
            <a:avLst/>
          </a:prstGeom>
          <a:ln w="0">
            <a:noFill/>
          </a:ln>
        </p:spPr>
      </p:pic>
      <p:pic>
        <p:nvPicPr>
          <p:cNvPr id="50" name="" descr=""/>
          <p:cNvPicPr/>
          <p:nvPr/>
        </p:nvPicPr>
        <p:blipFill>
          <a:blip r:embed="rId3"/>
          <a:stretch/>
        </p:blipFill>
        <p:spPr>
          <a:xfrm>
            <a:off x="3454560" y="4572000"/>
            <a:ext cx="2320920" cy="2516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1" name="" descr=""/>
          <p:cNvPicPr/>
          <p:nvPr/>
        </p:nvPicPr>
        <p:blipFill>
          <a:blip r:embed="rId2"/>
          <a:stretch/>
        </p:blipFill>
        <p:spPr>
          <a:xfrm>
            <a:off x="825480" y="390600"/>
            <a:ext cx="9186840" cy="68594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2" name="" descr=""/>
          <p:cNvPicPr/>
          <p:nvPr/>
        </p:nvPicPr>
        <p:blipFill>
          <a:blip r:embed="rId2"/>
          <a:stretch/>
        </p:blipFill>
        <p:spPr>
          <a:xfrm>
            <a:off x="984240" y="476280"/>
            <a:ext cx="9039240" cy="6689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247680" y="258840"/>
            <a:ext cx="9615600" cy="76824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ffff"/>
                </a:solidFill>
                <a:latin typeface="Georgia"/>
              </a:rPr>
              <a:t>          </a:t>
            </a:r>
            <a:r>
              <a:rPr b="0" lang="en-US" sz="4300" spc="-1" strike="noStrike">
                <a:solidFill>
                  <a:srgbClr val="ffffff"/>
                </a:solidFill>
                <a:latin typeface="Georgia"/>
              </a:rPr>
              <a:t>Gender  Bias  Survey Results</a:t>
            </a:r>
            <a:br>
              <a:rPr sz="4300"/>
            </a:br>
            <a:r>
              <a:rPr b="0" lang="en-US" sz="4300" spc="-1" strike="noStrike">
                <a:solidFill>
                  <a:srgbClr val="ffffff"/>
                </a:solidFill>
                <a:latin typeface="Georgia"/>
              </a:rPr>
              <a:t> </a:t>
            </a:r>
            <a:endParaRPr b="0" lang="en-US" sz="4300" spc="-1" strike="noStrike">
              <a:solidFill>
                <a:srgbClr val="000000"/>
              </a:solidFill>
              <a:latin typeface="Times New Roman"/>
            </a:endParaRPr>
          </a:p>
        </p:txBody>
      </p:sp>
      <p:sp>
        <p:nvSpPr>
          <p:cNvPr id="54" name="PlaceHolder 2"/>
          <p:cNvSpPr>
            <a:spLocks noGrp="1"/>
          </p:cNvSpPr>
          <p:nvPr>
            <p:ph/>
          </p:nvPr>
        </p:nvSpPr>
        <p:spPr>
          <a:xfrm>
            <a:off x="-36720" y="2252520"/>
            <a:ext cx="10086840" cy="14830560"/>
          </a:xfrm>
          <a:prstGeom prst="rect">
            <a:avLst/>
          </a:prstGeom>
          <a:noFill/>
          <a:ln w="0">
            <a:noFill/>
          </a:ln>
        </p:spPr>
        <p:txBody>
          <a:bodyPr lIns="0" rIns="0" tIns="0" bIns="0" anchor="t">
            <a:normAutofit fontScale="94000"/>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d626c"/>
                </a:solidFill>
                <a:latin typeface="Georgia"/>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d626c"/>
                </a:solidFill>
                <a:latin typeface="Georgia"/>
              </a:rPr>
              <a:t>                                      </a:t>
            </a:r>
            <a:r>
              <a:rPr b="0" lang="en-US" sz="2700" spc="-1" strike="noStrike">
                <a:solidFill>
                  <a:srgbClr val="4d626c"/>
                </a:solidFill>
                <a:latin typeface="Georgia"/>
              </a:rPr>
              <a:t>ADULT SURVEY</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d626c"/>
                </a:solidFill>
                <a:latin typeface="Georgia"/>
              </a:rPr>
              <a:t>While I was doing this survey I found out that men and women don't think that one is better than the other they both think that they're the same not different.</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d626c"/>
                </a:solidFill>
                <a:latin typeface="Georgia"/>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d626c"/>
                </a:solidFill>
                <a:latin typeface="Georgia"/>
              </a:rPr>
              <a:t>                                      </a:t>
            </a:r>
            <a:r>
              <a:rPr b="0" lang="en-US" sz="2700" spc="-1" strike="noStrike">
                <a:solidFill>
                  <a:srgbClr val="4d626c"/>
                </a:solidFill>
                <a:latin typeface="Georgia"/>
              </a:rPr>
              <a:t>CHILD SURVEY</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d626c"/>
                </a:solidFill>
                <a:latin typeface="Georgia"/>
              </a:rPr>
              <a:t>While I was surveying kids I found out that some think girls are better than boys and some thought that boys are better than girls and some just said no.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d626c"/>
                </a:solidFill>
                <a:latin typeface="Georgia"/>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d626c"/>
                </a:solidFill>
                <a:latin typeface="Georgia"/>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d626c"/>
                </a:solidFill>
                <a:latin typeface="Georgia"/>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d626c"/>
                </a:solidFill>
                <a:latin typeface="Georgia"/>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d626c"/>
                </a:solidFill>
                <a:latin typeface="Georgia"/>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d626c"/>
                </a:solidFill>
                <a:latin typeface="Georgia"/>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d626c"/>
                </a:solidFill>
                <a:latin typeface="Georgia"/>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d626c"/>
                </a:solidFill>
                <a:latin typeface="Georgia"/>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d626c"/>
                </a:solidFill>
                <a:latin typeface="Georgia"/>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d626c"/>
                </a:solidFill>
                <a:latin typeface="Georgia"/>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d626c"/>
                </a:solidFill>
                <a:latin typeface="Georgia"/>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d626c"/>
                </a:solidFill>
                <a:latin typeface="Georgia"/>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d626c"/>
                </a:solidFill>
                <a:latin typeface="Georgia"/>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d626c"/>
                </a:solidFill>
                <a:latin typeface="Georgia"/>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d626c"/>
                </a:solidFill>
                <a:latin typeface="Georgia"/>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d626c"/>
                </a:solidFill>
                <a:latin typeface="Georgia"/>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d626c"/>
                </a:solidFill>
                <a:latin typeface="Georgia"/>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d626c"/>
                </a:solidFill>
                <a:latin typeface="Georgia"/>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d626c"/>
                </a:solidFill>
                <a:latin typeface="Georgia"/>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d626c"/>
                </a:solidFill>
                <a:latin typeface="Georgia"/>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d626c"/>
                </a:solidFill>
                <a:latin typeface="Georgia"/>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d626c"/>
                </a:solidFill>
                <a:latin typeface="Georgia"/>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d626c"/>
                </a:solidFill>
                <a:latin typeface="Georgia"/>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d626c"/>
                </a:solidFill>
                <a:latin typeface="Georgia"/>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d626c"/>
                </a:solidFill>
                <a:latin typeface="Georgia"/>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d626c"/>
                </a:solidFill>
                <a:latin typeface="Georgia"/>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d626c"/>
                </a:solidFill>
                <a:latin typeface="Georgia"/>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d626c"/>
                </a:solidFill>
                <a:latin typeface="Georgia"/>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d626c"/>
                </a:solidFill>
                <a:latin typeface="Georgia"/>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d626c"/>
                </a:solidFill>
                <a:latin typeface="Georgia"/>
              </a:rPr>
              <a:t> </a:t>
            </a:r>
            <a:endParaRPr b="0" lang="en-US" sz="2700" spc="-1" strike="noStrike">
              <a:solidFill>
                <a:srgbClr val="000000"/>
              </a:solidFill>
              <a:latin typeface="Times New Roman"/>
            </a:endParaRPr>
          </a:p>
        </p:txBody>
      </p:sp>
      <p:pic>
        <p:nvPicPr>
          <p:cNvPr id="55" name="" descr=""/>
          <p:cNvPicPr/>
          <p:nvPr/>
        </p:nvPicPr>
        <p:blipFill>
          <a:blip r:embed="rId2"/>
          <a:stretch/>
        </p:blipFill>
        <p:spPr>
          <a:xfrm>
            <a:off x="7112160" y="914400"/>
            <a:ext cx="1117440" cy="2031840"/>
          </a:xfrm>
          <a:prstGeom prst="rect">
            <a:avLst/>
          </a:prstGeom>
          <a:ln w="0">
            <a:noFill/>
          </a:ln>
        </p:spPr>
      </p:pic>
      <p:pic>
        <p:nvPicPr>
          <p:cNvPr id="56" name="" descr=""/>
          <p:cNvPicPr/>
          <p:nvPr/>
        </p:nvPicPr>
        <p:blipFill>
          <a:blip r:embed="rId3"/>
          <a:stretch/>
        </p:blipFill>
        <p:spPr>
          <a:xfrm>
            <a:off x="4754520" y="5892840"/>
            <a:ext cx="1249560" cy="1730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ffff"/>
                </a:solidFill>
                <a:latin typeface="Georgia"/>
              </a:rPr>
              <a:t>Answers to Questions</a:t>
            </a:r>
            <a:endParaRPr b="0" lang="en-US" sz="4300" spc="-1" strike="noStrike">
              <a:solidFill>
                <a:srgbClr val="000000"/>
              </a:solidFill>
              <a:latin typeface="Times New Roman"/>
            </a:endParaRPr>
          </a:p>
        </p:txBody>
      </p:sp>
      <p:sp>
        <p:nvSpPr>
          <p:cNvPr id="58" name="PlaceHolder 2"/>
          <p:cNvSpPr>
            <a:spLocks noGrp="1"/>
          </p:cNvSpPr>
          <p:nvPr>
            <p:ph/>
          </p:nvPr>
        </p:nvSpPr>
        <p:spPr>
          <a:xfrm>
            <a:off x="247680" y="1219320"/>
            <a:ext cx="9664560" cy="5494320"/>
          </a:xfrm>
          <a:prstGeom prst="rect">
            <a:avLst/>
          </a:prstGeom>
          <a:noFill/>
          <a:ln w="0">
            <a:noFill/>
          </a:ln>
        </p:spPr>
        <p:txBody>
          <a:bodyPr lIns="0" rIns="0" tIns="0" bIns="0" anchor="t">
            <a:normAutofit fontScale="96000"/>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d626c"/>
                </a:solidFill>
                <a:latin typeface="Georgia"/>
              </a:rPr>
              <a:t>1.Do stereotypes affect how we see and interact with others?</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d626c"/>
                </a:solidFill>
                <a:latin typeface="Georgia"/>
              </a:rPr>
              <a:t>I do think stereotypes affect the way we see and interact with others</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d626c"/>
                </a:solidFill>
                <a:latin typeface="Georgia"/>
              </a:rPr>
              <a:t>2.Is using stereotypes to judge people harmful?</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d626c"/>
                </a:solidFill>
                <a:latin typeface="Georgia"/>
              </a:rPr>
              <a:t>Using stereotypes to judge people hurts their feelings so yes.</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d626c"/>
                </a:solidFill>
                <a:latin typeface="Georgia"/>
              </a:rPr>
              <a:t>3.What did you find out  about your self?Did you find biases that you didn't know you had?What were they?</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d626c"/>
                </a:solidFill>
                <a:latin typeface="Georgia"/>
              </a:rPr>
              <a:t>I found out that I sometimes think gender bias about people.Yes I did.They were ones that I noticed and that I used against girls.</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d626c"/>
                </a:solidFill>
                <a:latin typeface="Georgia"/>
              </a:rPr>
              <a:t>4.</a:t>
            </a:r>
            <a:r>
              <a:rPr b="0" lang="en-US" sz="2700" spc="-1" strike="noStrike">
                <a:solidFill>
                  <a:srgbClr val="4d626c"/>
                </a:solidFill>
                <a:latin typeface="arial"/>
              </a:rPr>
              <a:t>What can we do right now to help end gender bias?</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d626c"/>
                </a:solidFill>
                <a:latin typeface="arial"/>
              </a:rPr>
              <a:t>We can start thinking that people are the same not different,that would stop gender bias.</a:t>
            </a:r>
            <a:endParaRPr b="0" lang="en-US" sz="2700" spc="-1" strike="noStrike">
              <a:solidFill>
                <a:srgbClr val="000000"/>
              </a:solidFill>
              <a:latin typeface="Times New Roman"/>
            </a:endParaRPr>
          </a:p>
        </p:txBody>
      </p:sp>
      <p:pic>
        <p:nvPicPr>
          <p:cNvPr id="59" name="" descr=""/>
          <p:cNvPicPr/>
          <p:nvPr/>
        </p:nvPicPr>
        <p:blipFill>
          <a:blip r:embed="rId2"/>
          <a:stretch/>
        </p:blipFill>
        <p:spPr>
          <a:xfrm>
            <a:off x="5079960" y="5689440"/>
            <a:ext cx="1165320" cy="1808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06T09:28:21Z</dcterms:created>
  <dc:creator>Google</dc:creator>
  <dc:description/>
  <dc:language>en-US</dc:language>
  <cp:lastModifiedBy>Google</cp:lastModifiedBy>
  <dcterms:modified xsi:type="dcterms:W3CDTF">2004-05-06T19:43:19Z</dcterms:modified>
  <cp:revision>1</cp:revision>
  <dc:subject/>
  <dc:title>PowerPoint Presentation</dc:title>
</cp:coreProperties>
</file>